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576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BD8-A552-4A8E-B388-F8705506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BD8-95B5-47B3-BCB0-DFDD5693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7B27-00C3-433D-B56E-42B6CD70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106632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2642760"/>
            <a:ext cx="105984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894-7138-4BE5-801C-E29344AB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9B7-05D6-4AC1-8B83-77A1E6DD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512-7795-4ACA-8884-C85249B3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5B1-ED09-4CA7-A323-9EC1CBB9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920-D805-41F6-AA9A-6643E456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182160"/>
            <a:ext cx="329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70E-AE0B-4D6B-AC1B-99FFCAE2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AB8-65E7-4A72-BDC9-7F4FC753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264276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9B7-2727-47F1-AF68-AC52BF1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1066320"/>
            <a:ext cx="160668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2642760"/>
            <a:ext cx="3292560" cy="1439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ABB-4475-4004-BABE-BC8333FA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1066320"/>
            <a:ext cx="3292560" cy="30178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2680" indent="-147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87520" indent="-117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22240" indent="-1173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57320" indent="-1173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4164120"/>
            <a:ext cx="115920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4164120"/>
            <a:ext cx="854280" cy="3175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0D675F67-CC74-43B4-A41A-695E85B2E0F4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1420560"/>
            <a:ext cx="3108240" cy="9795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2400" y="254160"/>
            <a:ext cx="33526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6720" y="2590560"/>
            <a:ext cx="2711520" cy="116820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p>
            <a:pPr>
              <a:spcBef>
                <a:spcPts val="125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5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5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160" y="1066320"/>
            <a:ext cx="1616040" cy="23367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073240" y="965160"/>
            <a:ext cx="144792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520" y="182160"/>
            <a:ext cx="3292560" cy="7621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500"/>
            </a:br>
            <a:r>
              <a:rPr b="0" lang="ro-RO" sz="5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21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520" y="1066680"/>
            <a:ext cx="3200400" cy="1727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-2746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AutoNum type="alphaLcParenR"/>
              <a:tabLst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</cp:lastModifiedBy>
  <dcterms:modified xsi:type="dcterms:W3CDTF">2012-06-19T11:25:4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